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857-D005-4152-9DF1-0B8DF803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754-FA1E-4D9A-AEE9-E6C1A4DA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9FE-BB06-46F6-AE80-6D1B860E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293-1EC2-47AF-A8D3-5FA9E65E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6DDF-A74F-4E25-8B4C-410CBA38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FB2B-4DE2-4960-89BA-D9CB0BA6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9EBA-5382-41B6-8EB8-008FF33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55BB-9237-4270-A1C7-5CF3ABCE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5E1A-4DA2-48AD-A0AF-EDF6C6ED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53C7-6E31-4137-9FBC-5E0F132C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E037-0294-44CF-A3DD-FCAD8F5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075-80FF-4AFC-9C9C-7F7BF50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797-50E5-4964-988B-3AF18861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4689-52DC-438B-B554-A7B3B9A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9F38-6CF4-4DC2-A8F4-B1B996A3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BD5D-6B13-4AA7-A651-63A483DB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93A-FDE6-4F5E-9324-09910A56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DA0-9EBD-49A2-BF53-E500B7C9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54C-62A1-4506-86E1-F1A6AFBD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15E-71E9-46FD-90CC-FEE70D1E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B02-5AF4-4507-828B-21A8F804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A72-E5FF-4D53-B118-D36329A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4B6-7CA7-47A0-9784-1E061BB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29F-60F8-4110-9266-3FE43F83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A400-63C2-40AB-8C8C-EF31A61AC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99AD-A319-45AC-BDCC-7CC49BD079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e4c"/>
                </a:solidFill>
                <a:latin typeface="Tahoma"/>
              </a:rPr>
              <a:t>Me llamo _______ Clase 6NH</a:t>
            </a:r>
            <a:br>
              <a:rPr sz="4000"/>
            </a:br>
            <a:r>
              <a:rPr b="0" lang="en-US" sz="4000" spc="-1" strike="noStrike">
                <a:solidFill>
                  <a:srgbClr val="004e4c"/>
                </a:solidFill>
                <a:latin typeface="Tahoma"/>
              </a:rPr>
              <a:t>La fecha es el 2 de abril del 201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067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Propósito # 49: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Escribes mucho en cla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ee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versació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. R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pia y 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¿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mprendes?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.R21 (1-5)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Verb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ar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l desayuno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ayu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morz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b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0" y="1143000"/>
            <a:ext cx="4572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take/have (breakf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52480" y="175104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have d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362320"/>
            <a:ext cx="31240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have breakf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09680" y="289404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have lu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52480" y="342900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52480" y="4113360"/>
            <a:ext cx="2514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dr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464652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05120" y="5181480"/>
            <a:ext cx="2514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To rece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l Presente de los verbos –ER, -I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0% de los verbos en español terminan en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lang="es-ES_tradnl" sz="2800" spc="-1" strike="noStrike">
                <a:solidFill>
                  <a:srgbClr val="ba7c3e"/>
                </a:solidFill>
                <a:latin typeface="Tahoma"/>
              </a:rPr>
              <a:t>-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ra conjugar los verbos que terminan en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lang="es-ES_tradnl" sz="2800" spc="-1" strike="noStrike">
                <a:solidFill>
                  <a:srgbClr val="ba7c3e"/>
                </a:solidFill>
                <a:latin typeface="Tahoma"/>
              </a:rPr>
              <a:t>–I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) Sacamos la terminación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-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1" lang="es-ES_tradnl" sz="2800" spc="-1" strike="noStrike">
                <a:solidFill>
                  <a:srgbClr val="ba7c3e"/>
                </a:solidFill>
                <a:latin typeface="Tahoma"/>
              </a:rPr>
              <a:t>–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Comer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ba7c3e"/>
                </a:solidFill>
                <a:latin typeface="Tahoma"/>
              </a:rPr>
              <a:t>Viv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2)Remplazamos la terminación de la siguiente form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Y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ú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Él Ella Ud.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s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los Ellas U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Tahoma"/>
              </a:rPr>
              <a:t>**Los dos son iguales EXEPTO en NOSOTROS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812040" y="37479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5720" y="41911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2040" y="4572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6800" y="50292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6080" y="54864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000" y="502920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590920"/>
            <a:ext cx="4572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604960"/>
            <a:ext cx="4572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6080" y="33526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-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86600" y="335268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9960" y="37479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45560" y="41911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3480" y="4572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25400" y="54864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a7c3e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l verbo TENER 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(to have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verb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 un verbo irregular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“-GO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rque en la primera persona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mina en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“–go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verb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ambien es irregular porque la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RAI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l verbo camb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Cómo se conjuga el verb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E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s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Él el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los ell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d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U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666880"/>
            <a:ext cx="914400" cy="6098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124080"/>
            <a:ext cx="6858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96040" y="266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Ra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0400" y="26668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termin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2895480"/>
            <a:ext cx="53352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56480" y="405288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12560" y="44956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12560" y="51055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i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7040" y="40384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n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32640" y="51814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ie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p. R 14- R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85800"/>
            <a:ext cx="8915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3:00:05Z</dcterms:created>
  <dc:creator>Helen Zumaeta</dc:creator>
  <dc:description/>
  <dc:language>en-US</dc:language>
  <cp:lastModifiedBy>Helen Zumaeta</cp:lastModifiedBy>
  <dcterms:modified xsi:type="dcterms:W3CDTF">2012-04-02T13:31:10Z</dcterms:modified>
  <cp:revision>5</cp:revision>
  <dc:subject/>
  <dc:title>Me llamo _______ Clase 6NH La fecha es el 2 de abril del 2012</dc:title>
</cp:coreProperties>
</file>